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9E03-E53E-4F43-89F2-AE6607C69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8401-9371-41AF-A4FA-27A7D8B7B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210E-D7B7-4F78-BEC1-2A83E5A2F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1A18-383E-4B0E-ABD3-F21235671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1D399-88FA-48BB-B685-C8A6632E4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97915-49D4-47C8-B2EC-8D73F6797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210B9-4B59-4286-80F9-E649DCED9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00BD3-826E-458A-AEAD-2CB03EBA7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50CDB-638B-4A5E-B9D7-02CB442F1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DF045-EECF-4A84-89D4-FF50804CE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B0C34-29B3-40D9-A9CD-E09CE64F8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EEA3-DB9C-4D39-A4F4-3CB096D73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B0BF4-0BFF-4231-AAB4-4FFC1F187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23ED2-9A4B-49B9-AEFB-09DCBA88A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659F1-8180-4AC3-AEE8-D54CEEDC9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95AFE-5626-4C8D-8D25-879CD0826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93F08-5E6A-4A48-A5FA-AC7B5F030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B2F6-39DF-4215-88B4-C7A4C17F5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5270-CE26-4290-A634-27F1D654D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552B-BB5F-4CCA-9191-6B6C89D44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0B6D-AD1B-4F43-8590-F23BC468F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3543-9E3E-45C2-BA77-91A9B7E80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A415-4569-42BA-92A8-E65FC0B9E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AD6F-1C46-42FF-A04D-ED1E52C5D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30538-FE37-4015-A4A4-DDE8D47374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D8FD1-1BD9-4842-BC19-C46EA089F8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9.xml"/><Relationship Id="rId3" Type="http://schemas.openxmlformats.org/officeDocument/2006/relationships/slide" Target="slide3.xml"/><Relationship Id="rId4" Type="http://schemas.openxmlformats.org/officeDocument/2006/relationships/slide" Target="slide8.xml"/><Relationship Id="rId5" Type="http://schemas.openxmlformats.org/officeDocument/2006/relationships/slide" Target="slide13.xml"/><Relationship Id="rId6" Type="http://schemas.openxmlformats.org/officeDocument/2006/relationships/slide" Target="slide18.xml"/><Relationship Id="rId7" Type="http://schemas.openxmlformats.org/officeDocument/2006/relationships/slide" Target="slide23.xml"/><Relationship Id="rId8" Type="http://schemas.openxmlformats.org/officeDocument/2006/relationships/slide" Target="slide4.xml"/><Relationship Id="rId9" Type="http://schemas.openxmlformats.org/officeDocument/2006/relationships/slide" Target="slide9.xml"/><Relationship Id="rId10" Type="http://schemas.openxmlformats.org/officeDocument/2006/relationships/slide" Target="slide14.xml"/><Relationship Id="rId11" Type="http://schemas.openxmlformats.org/officeDocument/2006/relationships/slide" Target="slide19.xml"/><Relationship Id="rId12" Type="http://schemas.openxmlformats.org/officeDocument/2006/relationships/slide" Target="slide24.xml"/><Relationship Id="rId13" Type="http://schemas.openxmlformats.org/officeDocument/2006/relationships/slide" Target="slide5.xml"/><Relationship Id="rId14" Type="http://schemas.openxmlformats.org/officeDocument/2006/relationships/slide" Target="slide10.xml"/><Relationship Id="rId15" Type="http://schemas.openxmlformats.org/officeDocument/2006/relationships/slide" Target="slide15.xml"/><Relationship Id="rId16" Type="http://schemas.openxmlformats.org/officeDocument/2006/relationships/slide" Target="slide20.xml"/><Relationship Id="rId17" Type="http://schemas.openxmlformats.org/officeDocument/2006/relationships/slide" Target="slide26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slide" Target="slide27.xml"/><Relationship Id="rId23" Type="http://schemas.openxmlformats.org/officeDocument/2006/relationships/slide" Target="slide7.xml"/><Relationship Id="rId24" Type="http://schemas.openxmlformats.org/officeDocument/2006/relationships/slide" Target="slide12.xml"/><Relationship Id="rId25" Type="http://schemas.openxmlformats.org/officeDocument/2006/relationships/slide" Target="slide17.xml"/><Relationship Id="rId26" Type="http://schemas.openxmlformats.org/officeDocument/2006/relationships/slide" Target="slide22.xml"/><Relationship Id="rId27" Type="http://schemas.openxmlformats.org/officeDocument/2006/relationships/slide" Target="slide28.xml"/><Relationship Id="rId2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5.xml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9.xml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9.xml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9.xml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9.xml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9.xml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9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7.xml"/><Relationship Id="rId3" Type="http://schemas.openxmlformats.org/officeDocument/2006/relationships/slide" Target="slide37.xml"/><Relationship Id="rId4" Type="http://schemas.openxmlformats.org/officeDocument/2006/relationships/slide" Target="slide37.xml"/><Relationship Id="rId5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9.xml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9.xml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9.xm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9.xml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9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9.xm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9.xml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9.xml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9.xml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ivics Goal 1 Jeopardy Review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uthors - 300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 was responsible for working out the details of the Bill of Rights and was known as the “Father of the Constitution.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bac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uthors - 400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is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Tahoma"/>
              </a:rPr>
              <a:t>nd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 Treatise on Civil Governmen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was borrowed from Declaration of Independenc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bac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uthors - 500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 was a New York newspaper publisher who went to jail to protect the freedom of the press in colonial tim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bac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rticles of Confederation - 100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s branch of government was nonexistent under the Articles of Confeder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bac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rticles of Confederation - 200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s rebellion was one of several instances that proved the Articles to be too weak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bac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rticles of Confederation - 300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st of the power under the Articles of Confederation rested with thes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bac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rticles of Confederation - 400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gress did not have the power to do this under the Articles of Confederat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bac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rticles of Confederation - 500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s law, passed in 1787 under the Articles of Confederation, provided a process for territories to become stat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bac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Constitutional Compromises – 100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Three-Fifths Compromise arose from debate over this issu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bac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Constitutional Compromises - 200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Great Compromise was a halfway point between these two plan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bac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Goal 1 Jeopardy  </a:t>
            </a:r>
            <a:r>
              <a:rPr b="0" lang="en-US" sz="44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Round 1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380880" y="1630440"/>
          <a:ext cx="8229600" cy="522756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nglish Tradit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utho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rticles of Confedert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onstitutional Compromi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olonists’ problem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ccff"/>
                          </a:solidFill>
                          <a:uFillTx/>
                          <a:latin typeface="Tahoma"/>
                          <a:hlinkClick r:id="rId3" action="ppaction://hlinksldjump"/>
                        </a:rPr>
                        <a:t>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ccff"/>
                          </a:solidFill>
                          <a:uFillTx/>
                          <a:latin typeface="Tahoma"/>
                          <a:hlinkClick r:id="rId4" action="ppaction://hlinksldjump"/>
                        </a:rPr>
                        <a:t>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ccff"/>
                          </a:solidFill>
                          <a:uFillTx/>
                          <a:latin typeface="Tahoma"/>
                          <a:hlinkClick r:id="rId5" action="ppaction://hlinksldjump"/>
                        </a:rPr>
                        <a:t>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ccff"/>
                          </a:solidFill>
                          <a:uFillTx/>
                          <a:latin typeface="Tahoma"/>
                          <a:hlinkClick r:id="rId6" action="ppaction://hlinksldjump"/>
                        </a:rPr>
                        <a:t>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ccff"/>
                          </a:solidFill>
                          <a:uFillTx/>
                          <a:latin typeface="Tahoma"/>
                          <a:hlinkClick r:id="rId7" action="ppaction://hlinksldjump"/>
                        </a:rPr>
                        <a:t>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ccff"/>
                          </a:solidFill>
                          <a:uFillTx/>
                          <a:latin typeface="Tahoma"/>
                          <a:hlinkClick r:id="rId8" action="ppaction://hlinksldjump"/>
                        </a:rPr>
                        <a:t>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ccff"/>
                          </a:solidFill>
                          <a:uFillTx/>
                          <a:latin typeface="Tahoma"/>
                          <a:hlinkClick r:id="rId9" action="ppaction://hlinksldjump"/>
                        </a:rPr>
                        <a:t>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ccff"/>
                          </a:solidFill>
                          <a:uFillTx/>
                          <a:latin typeface="Tahoma"/>
                          <a:hlinkClick r:id="rId10" action="ppaction://hlinksldjump"/>
                        </a:rPr>
                        <a:t>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ccff"/>
                          </a:solidFill>
                          <a:uFillTx/>
                          <a:latin typeface="Tahoma"/>
                          <a:hlinkClick r:id="rId11" action="ppaction://hlinksldjump"/>
                        </a:rPr>
                        <a:t>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ccff"/>
                          </a:solidFill>
                          <a:uFillTx/>
                          <a:latin typeface="Tahoma"/>
                          <a:hlinkClick r:id="rId12" action="ppaction://hlinksldjump"/>
                        </a:rPr>
                        <a:t>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ccff"/>
                          </a:solidFill>
                          <a:uFillTx/>
                          <a:latin typeface="Tahoma"/>
                          <a:hlinkClick r:id="rId13" action="ppaction://hlinksldjump"/>
                        </a:rPr>
                        <a:t>3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ccff"/>
                          </a:solidFill>
                          <a:uFillTx/>
                          <a:latin typeface="Tahoma"/>
                          <a:hlinkClick r:id="rId14" action="ppaction://hlinksldjump"/>
                        </a:rPr>
                        <a:t>3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ccff"/>
                          </a:solidFill>
                          <a:uFillTx/>
                          <a:latin typeface="Tahoma"/>
                          <a:hlinkClick r:id="rId15" action="ppaction://hlinksldjump"/>
                        </a:rPr>
                        <a:t>3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ccff"/>
                          </a:solidFill>
                          <a:uFillTx/>
                          <a:latin typeface="Tahoma"/>
                          <a:hlinkClick r:id="rId16" action="ppaction://hlinksldjump"/>
                        </a:rPr>
                        <a:t>3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ccff"/>
                          </a:solidFill>
                          <a:uFillTx/>
                          <a:latin typeface="Tahoma"/>
                          <a:hlinkClick r:id="rId17" action="ppaction://hlinksldjump"/>
                        </a:rPr>
                        <a:t>3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ccff"/>
                          </a:solidFill>
                          <a:uFillTx/>
                          <a:latin typeface="Tahoma"/>
                          <a:hlinkClick r:id="rId18" action="ppaction://hlinksldjump"/>
                        </a:rPr>
                        <a:t>4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ccff"/>
                          </a:solidFill>
                          <a:uFillTx/>
                          <a:latin typeface="Tahoma"/>
                          <a:hlinkClick r:id="rId19" action="ppaction://hlinksldjump"/>
                        </a:rPr>
                        <a:t>4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ccff"/>
                          </a:solidFill>
                          <a:uFillTx/>
                          <a:latin typeface="Tahoma"/>
                          <a:hlinkClick r:id="rId20" action="ppaction://hlinksldjump"/>
                        </a:rPr>
                        <a:t>4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ccff"/>
                          </a:solidFill>
                          <a:uFillTx/>
                          <a:latin typeface="Tahoma"/>
                          <a:hlinkClick r:id="rId21" action="ppaction://hlinksldjump"/>
                        </a:rPr>
                        <a:t>4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ccff"/>
                          </a:solidFill>
                          <a:uFillTx/>
                          <a:latin typeface="Tahoma"/>
                          <a:hlinkClick r:id="rId22" action="ppaction://hlinksldjump"/>
                        </a:rPr>
                        <a:t>4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ccff"/>
                          </a:solidFill>
                          <a:uFillTx/>
                          <a:latin typeface="Tahoma"/>
                          <a:hlinkClick r:id="rId23" action="ppaction://hlinksldjump"/>
                        </a:rPr>
                        <a:t>5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ccff"/>
                          </a:solidFill>
                          <a:uFillTx/>
                          <a:latin typeface="Tahoma"/>
                          <a:hlinkClick r:id="rId24" action="ppaction://hlinksldjump"/>
                        </a:rPr>
                        <a:t>5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ccff"/>
                          </a:solidFill>
                          <a:uFillTx/>
                          <a:latin typeface="Tahoma"/>
                          <a:hlinkClick r:id="rId25" action="ppaction://hlinksldjump"/>
                        </a:rPr>
                        <a:t>5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ccff"/>
                          </a:solidFill>
                          <a:uFillTx/>
                          <a:latin typeface="Tahoma"/>
                          <a:hlinkClick r:id="rId26" action="ppaction://hlinksldjump"/>
                        </a:rPr>
                        <a:t>5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ccff"/>
                          </a:solidFill>
                          <a:uFillTx/>
                          <a:latin typeface="Tahoma"/>
                          <a:hlinkClick r:id="rId27" action="ppaction://hlinksldjump"/>
                        </a:rPr>
                        <a:t>5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Constitutional Compromises - 300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s was finally added to the Constitution to pacify Anti-Federalists and ensure its ratification by at least 9 stat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bac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Constitutional Compromises - 400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s was created after debate raged over whether the people or their elected representatives should vote for the presiden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bac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Constitutional Compromises - 500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s Compromise resulted from Southern distrust of Northern manufacturer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bac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olonists’ Problems - 100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s resulted in the killing of several colonists on the Boston Comm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bac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DAILY DOUBLE!!!!!!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olonists’ Problems Daily Doubl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s group was responsible for the Boston Tea Par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bac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olonists’ Problems - 300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se were passed to punish colonists for the Boston Tea Part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30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olonists’ Problems - 400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s law prevented colonists from moving west of the Appalachian Mountain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bac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olonists’ Problems - 500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se colonial court orders allowing general searches were detested by the colonist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bac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Goal 1 Double Jeopard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57200" y="1752480"/>
          <a:ext cx="8229600" cy="488484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ew Governm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elig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elf-governm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lavery and Servitu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ar and fight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2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2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English Tradition - 100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s was a system of unwritten laws based on previous court decis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bac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New Government - 200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se people were supporters of the new Constitution and a strong central governmen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bac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New Government - 600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ti-Federalists believed in this type of interpretation of the Constitut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bac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New Government – 1,000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s treaty, recognizing American Independence, was ratified under the Articles of Confederat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bac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elf-government - 200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s was the first representative assembly set up in the English colonies in North Americ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bac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elf-government - 600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s document set up a direct democrac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bac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elf-government – 1,000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s was the first Colonial Constitu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bac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2</a:t>
            </a:r>
            <a:r>
              <a:rPr b="0" lang="en-US" sz="3200" spc="-1" strike="noStrike" u="sng" baseline="30000">
                <a:solidFill>
                  <a:srgbClr val="00ccff"/>
                </a:solidFill>
                <a:uFillTx/>
                <a:latin typeface="Tahoma"/>
                <a:hlinkClick r:id="rId3" action="ppaction://hlinksldjump"/>
              </a:rPr>
              <a:t>nd</a:t>
            </a:r>
            <a:r>
              <a:rPr b="0" lang="en-US" sz="3200" spc="-1" strike="noStrike" u="sng" baseline="30000">
                <a:solidFill>
                  <a:srgbClr val="00ccff"/>
                </a:solidFill>
                <a:uFillTx/>
                <a:latin typeface="Tahoma"/>
                <a:hlinkClick r:id="rId4" action="ppaction://hlinksldjump"/>
              </a:rPr>
              <a:t> Daily Double!!!!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Relig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uritans, Pilgrims, Quakers, and Catholics were all examples of thi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bac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Religion - 600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wave of paranoia caused many Puritan leaders in this town to take part in the persecution of many falsely accused men and wome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bac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Religion – 1,000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s was a religious revival in colonial America led by Jonathan Edward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bac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English Tradition - 200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s was the “Great Charter”, signed by King John, limiting the king’s pow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bac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lavery and Servitude - 200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se were people who signed a contract to work for someone for a specified amount of time in exchange for the payment of their trip to the New Worl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bac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lavery and Servitude - 600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s was the trip that many slaves were forced to take from Africa to the Americ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bac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lavery and Servitude – 1,000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se were the three end points of the Triangular Trade Rout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bac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War and Fighting - 200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“shot heard round the world” began this battl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bac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War and Fighting – 600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s fight, from 1754 – 1763, was one of the long-term causes of the American Revolut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bac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War and Fighting – 1,000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British surrendered after a siege at this Virginia tow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bac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Final Jeopard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se were the two causes of Bacon’s Rebell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English Tradition - 300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s was passed in 1688 following the Glorious Revolution.  It gave every citizen the right to a trial by jury and banned cruel and unusual punishment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bac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English Tradition - 400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s was a group of advisors that began meeting with the king regularly in the 1300s, eventually grew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bac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English Tradition - 500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s was the theory that a colony should help the mother country sell more goods than it buys (favorable balance of trade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bac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uthors - 100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s man wrote the Declaration of Independe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bac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uthors - 200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s man’s pamphlet,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Common Sens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convinced many people in the colonies that a complete break with  Great Britain was desirabl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bac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3T03:27:01Z</dcterms:created>
  <dc:creator>Scruggs</dc:creator>
  <dc:description/>
  <dc:language>en-US</dc:language>
  <cp:lastModifiedBy>North Pitt High School</cp:lastModifiedBy>
  <dcterms:modified xsi:type="dcterms:W3CDTF">2006-09-13T12:15:18Z</dcterms:modified>
  <cp:revision>13</cp:revision>
  <dc:subject/>
  <dc:title>Civics Goal 1 Jeopardy Review</dc:title>
</cp:coreProperties>
</file>